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1B7-BD96-4A01-8934-1266A683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51E7-93D0-459B-BE31-EC16E775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95AE-D7C6-451F-9839-51EFD200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624-BA35-4396-933F-4157304F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4060D-C6E4-4BE5-9AB3-BDDA5DF5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5A634-8E2A-48B8-8267-A88B1D4A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1672B-6A62-4466-A8AD-A65ABFE0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FE93B-C902-4173-A737-7B3B920C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AC3FD-54CD-4A08-B0B9-E67F17BD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44E28-6CD0-4313-B889-F3BC6574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3DEB5-E638-463C-A8CE-CF43114F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2B3-7F0F-47EE-9E69-835AD7D5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52F96-3477-4962-A909-4AC5BE68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2044E-DD64-4D4C-A45A-A482E00E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56C85-EF2D-4C0B-BF42-2EA2B1E0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A7EE1-259F-4B47-9053-89B2AF81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8376D-3027-4330-BBBC-93FCDAEE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E4B-BE4C-47C4-A88D-1967F9D1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1AAD-7AB6-4CBD-8B8B-F092A67C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5F4B-3507-4D48-8495-609CA936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B093-F259-4990-A43F-767531E9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00D-4E83-43FF-B406-D4D4B709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B79-EDDF-4D17-812F-3EFC127C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35F-1B88-4218-AD23-36976441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DA3B-63EE-4B19-BC72-1493400954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4905-F035-42A0-BFBD-D7E2587811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4582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Is Homework A Good Thing??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666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Overvie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 you think that homework is a good th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t’s see if we can work out the answ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do this, we’re going to use two special strategi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P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Academic Controver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PMI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’re talking about HOME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, we’re going to brainstorm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lu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Minu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m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Interest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cademic Controversy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w, we’re going to take part in a type of deb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tep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Form into teams of 4, and choose two ‘yes’ and two ‘no’ representa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83822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The topic: All homework is to be immediately stopp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Work out the yes and no argu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Present your argu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Now change si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Drop the yes and no, and then decide whether homework is to be stopp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Ryan</cp:lastModifiedBy>
  <dcterms:modified xsi:type="dcterms:W3CDTF">2005-08-22T12:35:2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